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290-C8F4-455E-BF1D-B2D4DA87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1E7-A23F-47E1-ACA7-190D4249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E57-5404-4DE7-8BCF-94C94910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646-FF81-42A0-A53E-9A8B48DF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1469-0307-41E8-B2F6-925B60B6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969F-E46B-4E5C-BC45-80DDB07B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5F36-299E-4D90-8682-662DCB46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C71C-C4DE-4307-AA97-EEED5913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9F47-9313-45FE-80D8-86C46E1F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3E39-A968-4C5E-A2F2-85F409CB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7325-1164-4250-AA23-B482461A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C57-4F70-47E7-9444-F80AE35E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96BB-9FB7-4420-9036-0A1CB443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4F0B-C50D-4EE0-8C60-A1BB5C3C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2D89-920F-462C-808F-E26E9914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C69D-CB84-4DBC-9E43-B944AD4C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4C6E-B7EF-45FA-9C6F-6ECEB68C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454-C7A6-4FA9-BED1-4FB3714F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224-AF72-4073-B97B-926969A2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0F3-670B-4916-A500-AD864D09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7D0-9B28-476F-A800-436E85D4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99B-4030-41C5-927D-EDB3BDEA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96F-2EE9-47F9-A5BF-05F58EF2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15F-03FD-4F1B-A146-D91B93E4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2D84-42AD-4AE1-86E6-C8949F48372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95C3-A159-4AEF-8C54-FDBAC838A04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rrengibb@gmail.co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daysmeet.com/DulceChat" TargetMode="External"/><Relationship Id="rId2" Type="http://schemas.openxmlformats.org/officeDocument/2006/relationships/hyperlink" Target="http://www.todaysmeet.com/s3-dulce" TargetMode="External"/><Relationship Id="rId3" Type="http://schemas.openxmlformats.org/officeDocument/2006/relationships/image" Target="../media/image10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rgibbenglish.tumblr.com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file:///Volumes/NO%20NAME/Banchory%20Academy/Teach%20meet/ICT%20in%20the%20English%20Classroom.ppt#13. flickr" TargetMode="Externa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hyperlink" Target="file:///Volumes/NO%20NAME/Banchory%20Academy/Teach%20meet/ICT%20in%20the%20English%20Classroom.ppt#15. Others of notable mention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file:///Volumes/NO%20NAME/Banchory%20Academy/Teach%20meet/ICT%20in%20the%20English%20Classroom.ppt#13. flickr" TargetMode="Externa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hyperlink" Target="file:///Volumes/NO%20NAME/Banchory%20Academy/Teach%20meet/ICT%20in%20the%20English%20Classroom.ppt#15. Others of notable mention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1-2novel.wikispaces.com/" TargetMode="External"/><Relationship Id="rId2" Type="http://schemas.openxmlformats.org/officeDocument/2006/relationships/hyperlink" Target="http://s1novel.wikispaces.com/" TargetMode="External"/><Relationship Id="rId3" Type="http://schemas.openxmlformats.org/officeDocument/2006/relationships/hyperlink" Target="http://int2mrgibb.wikispaces.com/" TargetMode="External"/><Relationship Id="rId4" Type="http://schemas.openxmlformats.org/officeDocument/2006/relationships/image" Target="../media/image6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hyperlink" Target="https://int2mrgibb.wikispaces.com/Glasgow+PowerPoints" TargetMode="External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GB" sz="4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85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rren Gi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mrgibbenglish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@darrengi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t.ly/darrengi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://aux.iconpedia.net/uploads/1061260918.png"/>
          <p:cNvPicPr/>
          <p:nvPr/>
        </p:nvPicPr>
        <p:blipFill>
          <a:blip r:embed="rId2"/>
          <a:stretch/>
        </p:blipFill>
        <p:spPr>
          <a:xfrm>
            <a:off x="5219640" y="4653000"/>
            <a:ext cx="782640" cy="50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odaysMee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witter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squ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40 characters per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lliant wa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engag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 pupi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quick to set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user accounts need be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todaysmeet.com/Dulce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todaysmeet.com/s3-du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://4.bp.blogspot.com/_pru4vsQdAQY/TMA-JeCk4WI/AAAAAAAABO8/e_IWzJ5If2o/s400/TodaysMeet.jpg"/>
          <p:cNvPicPr/>
          <p:nvPr/>
        </p:nvPicPr>
        <p:blipFill>
          <a:blip r:embed="rId3"/>
          <a:stretch/>
        </p:blipFill>
        <p:spPr>
          <a:xfrm>
            <a:off x="5724360" y="333360"/>
            <a:ext cx="3198960" cy="83520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le 4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>
            <a:hlinkClick r:id="rId4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2"/>
          <p:cNvSpPr/>
          <p:nvPr/>
        </p:nvSpPr>
        <p:spPr>
          <a:xfrm>
            <a:off x="900000" y="1773360"/>
            <a:ext cx="7632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lly just started playing about with at the weekend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mrgibbenglish.tumblr.com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run a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for sharing photo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tumblr.tiff"/>
          <p:cNvPicPr/>
          <p:nvPr/>
        </p:nvPicPr>
        <p:blipFill>
          <a:blip r:embed="rId2"/>
          <a:stretch/>
        </p:blipFill>
        <p:spPr>
          <a:xfrm>
            <a:off x="6156360" y="476280"/>
            <a:ext cx="2666880" cy="736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umblr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900000" y="162864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used with a smartphone (iPhone, Blackberry, HTC etc – a phone which you are able to download and use apps 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allows you to download the app and simply upload the pictures from your phone to the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 use a digital camera and upload images to flickr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for capturing pupil groupwork, such as mindmap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reference for homework or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link from blog or wi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t.ly/int2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flickr.tiff"/>
          <p:cNvPicPr/>
          <p:nvPr/>
        </p:nvPicPr>
        <p:blipFill>
          <a:blip r:embed="rId1"/>
          <a:stretch/>
        </p:blipFill>
        <p:spPr>
          <a:xfrm>
            <a:off x="6588000" y="404640"/>
            <a:ext cx="2087640" cy="801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lick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755640" y="1773360"/>
            <a:ext cx="82090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collaborative word processing t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everything else, free to use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ignup requi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at has to be done is a unique link shared to join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upil allocated different colour, so is clear who has written w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go here: http://bit.ly/titanpadtest to experi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itanpad.tiff"/>
          <p:cNvPicPr/>
          <p:nvPr/>
        </p:nvPicPr>
        <p:blipFill>
          <a:blip r:embed="rId1"/>
          <a:stretch/>
        </p:blipFill>
        <p:spPr>
          <a:xfrm>
            <a:off x="6084720" y="476280"/>
            <a:ext cx="2692440" cy="67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tanP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Picture 5" descr="syncin.tiff"/>
          <p:cNvPicPr/>
          <p:nvPr/>
        </p:nvPicPr>
        <p:blipFill>
          <a:blip r:embed="rId2"/>
          <a:stretch/>
        </p:blipFill>
        <p:spPr>
          <a:xfrm>
            <a:off x="5076720" y="4149720"/>
            <a:ext cx="3683160" cy="7491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755640" y="544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ilar idea to TitanPad; a collaborative word processor. Again, no signup is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755640" y="41497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c.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Placema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755640" y="1773360"/>
            <a:ext cx="7993080" cy="4751280"/>
          </a:xfrm>
          <a:prstGeom prst="rect">
            <a:avLst/>
          </a:prstGeom>
          <a:solidFill>
            <a:srgbClr val="ffffe1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Pup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195640" y="3068640"/>
            <a:ext cx="4752720" cy="2232000"/>
          </a:xfrm>
          <a:prstGeom prst="rect">
            <a:avLst/>
          </a:prstGeom>
          <a:solidFill>
            <a:srgbClr val="ffffe1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7"/>
          <p:cNvSpPr/>
          <p:nvPr/>
        </p:nvSpPr>
        <p:spPr>
          <a:xfrm flipV="1">
            <a:off x="4572000" y="1773360"/>
            <a:ext cx="0" cy="129528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9"/>
          <p:cNvSpPr/>
          <p:nvPr/>
        </p:nvSpPr>
        <p:spPr>
          <a:xfrm flipV="1">
            <a:off x="6948360" y="4149360"/>
            <a:ext cx="1800360" cy="3492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>
            <a:off x="4572000" y="5300640"/>
            <a:ext cx="0" cy="122400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 flipH="1" flipV="1">
            <a:off x="755640" y="4149360"/>
            <a:ext cx="1440000" cy="3492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2268360" y="3141720"/>
            <a:ext cx="439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900000" y="191628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8"/>
          <p:cNvSpPr/>
          <p:nvPr/>
        </p:nvSpPr>
        <p:spPr>
          <a:xfrm>
            <a:off x="6084720" y="19162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9"/>
          <p:cNvSpPr/>
          <p:nvPr/>
        </p:nvSpPr>
        <p:spPr>
          <a:xfrm rot="10800000">
            <a:off x="826920" y="4739760"/>
            <a:ext cx="25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0"/>
          <p:cNvSpPr/>
          <p:nvPr/>
        </p:nvSpPr>
        <p:spPr>
          <a:xfrm rot="10800000">
            <a:off x="6084360" y="466704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21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thers of notable men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755640" y="1557360"/>
            <a:ext cx="813744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websites which I have limited experience with. Feedback from teachers around the world suggest that they are invaluable to their tea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o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ke a facebook page for your clas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pupil has their own logi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0% safe and sec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ility to share links; video; pics; share info; upload work; comment on others’ work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-o-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 audio to your powerpo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sentially create a movie out of them, moving slides at your own ace and adding audio to give further explanations (as you would in the classroo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 be excellent for revis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pils could also use it to add further explanations from your powerpoint not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thers of notable men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826920" y="2133720"/>
            <a:ext cx="8066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Do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literally just come across it! I have therefore not used it, but can see the potential in it. It is essentially a real-time classroom management interface, where you can reward pupils immediately. I don't have enough time to look fully into it, but feel free to and let me know any feedback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ounded Rectangle 4"/>
          <p:cNvSpPr/>
          <p:nvPr/>
        </p:nvSpPr>
        <p:spPr>
          <a:xfrm>
            <a:off x="1979640" y="1557360"/>
            <a:ext cx="3240000" cy="518328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5183280"/>
              <a:gd name="textAreaBottom" fmla="*/ 5025240 h 5183280"/>
            </a:gdLst>
            <a:ahLst/>
            <a:rect l="textAreaLeft" t="textAreaTop" r="textAreaRight" b="textAreaBottom"/>
            <a:pathLst>
              <a:path w="21600" h="34554">
                <a:moveTo>
                  <a:pt x="3600" y="0"/>
                </a:moveTo>
                <a:arcTo wR="3600" hR="3600" stAng="16200000" swAng="-5400000"/>
                <a:lnTo>
                  <a:pt x="0" y="30954"/>
                </a:lnTo>
                <a:arcTo wR="3600" hR="3600" stAng="10800000" swAng="-5400000"/>
                <a:lnTo>
                  <a:pt x="18000" y="3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5076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68360" y="1771560"/>
            <a:ext cx="27352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Podca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FlipC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Wikisp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G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Ever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TodaysM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GB" sz="4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ounded Rectangle 5"/>
          <p:cNvSpPr/>
          <p:nvPr/>
        </p:nvSpPr>
        <p:spPr>
          <a:xfrm>
            <a:off x="5435640" y="1844640"/>
            <a:ext cx="2521080" cy="4896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4896000"/>
              <a:gd name="textAreaBottom" fmla="*/ 4773240 h 4896000"/>
            </a:gdLst>
            <a:ahLst/>
            <a:rect l="textAreaLeft" t="textAreaTop" r="textAreaRight" b="textAreaBottom"/>
            <a:pathLst>
              <a:path w="21600" h="41945">
                <a:moveTo>
                  <a:pt x="3600" y="0"/>
                </a:moveTo>
                <a:arcTo wR="3600" hR="3600" stAng="16200000" swAng="-5400000"/>
                <a:lnTo>
                  <a:pt x="0" y="38345"/>
                </a:lnTo>
                <a:arcTo wR="3600" hR="3600" stAng="10800000" swAng="-5400000"/>
                <a:lnTo>
                  <a:pt x="18000" y="4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Tumbl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Flick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TitanPad / </a:t>
            </a: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Sync.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Place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Others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ounded Rectangle 4"/>
          <p:cNvSpPr/>
          <p:nvPr/>
        </p:nvSpPr>
        <p:spPr>
          <a:xfrm>
            <a:off x="1979640" y="1557360"/>
            <a:ext cx="3240000" cy="518328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5183280"/>
              <a:gd name="textAreaBottom" fmla="*/ 5025240 h 5183280"/>
            </a:gdLst>
            <a:ahLst/>
            <a:rect l="textAreaLeft" t="textAreaTop" r="textAreaRight" b="textAreaBottom"/>
            <a:pathLst>
              <a:path w="21600" h="34554">
                <a:moveTo>
                  <a:pt x="3600" y="0"/>
                </a:moveTo>
                <a:arcTo wR="3600" hR="3600" stAng="16200000" swAng="-5400000"/>
                <a:lnTo>
                  <a:pt x="0" y="30954"/>
                </a:lnTo>
                <a:arcTo wR="3600" hR="3600" stAng="10800000" swAng="-5400000"/>
                <a:lnTo>
                  <a:pt x="18000" y="3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95076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268360" y="1771560"/>
            <a:ext cx="27352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Podca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FlipC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Wikisp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G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Ever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TodaysM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GB" sz="4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5435640" y="1844640"/>
            <a:ext cx="2521080" cy="4896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4896000"/>
              <a:gd name="textAreaBottom" fmla="*/ 4773240 h 4896000"/>
            </a:gdLst>
            <a:ahLst/>
            <a:rect l="textAreaLeft" t="textAreaTop" r="textAreaRight" b="textAreaBottom"/>
            <a:pathLst>
              <a:path w="21600" h="41945">
                <a:moveTo>
                  <a:pt x="3600" y="0"/>
                </a:moveTo>
                <a:arcTo wR="3600" hR="3600" stAng="16200000" swAng="-5400000"/>
                <a:lnTo>
                  <a:pt x="0" y="38345"/>
                </a:lnTo>
                <a:arcTo wR="3600" hR="3600" stAng="10800000" swAng="-5400000"/>
                <a:lnTo>
                  <a:pt x="18000" y="4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Tumbl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Flick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TitanPad / </a:t>
            </a: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Sync.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Place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Others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Podcas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udacity: Free Sound Editor and Recording Software"/>
          <p:cNvPicPr/>
          <p:nvPr/>
        </p:nvPicPr>
        <p:blipFill>
          <a:blip r:embed="rId1"/>
          <a:stretch/>
        </p:blipFill>
        <p:spPr>
          <a:xfrm>
            <a:off x="684360" y="1557360"/>
            <a:ext cx="2409840" cy="576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84360" y="2276640"/>
            <a:ext cx="8064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software that is installed on most school computers – if not, IT technicians will be able to install on multiple mach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ly easy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put differen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be converted into mp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Audioboo_1578813c"/>
          <p:cNvPicPr/>
          <p:nvPr/>
        </p:nvPicPr>
        <p:blipFill>
          <a:blip r:embed="rId2"/>
          <a:stretch/>
        </p:blipFill>
        <p:spPr>
          <a:xfrm>
            <a:off x="662040" y="4149720"/>
            <a:ext cx="2881440" cy="9367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>
            <a:off x="826920" y="510372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way to record podcast via ipod/iphone or your computer and directly upload to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can then be download as an mp3 or through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Tu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for listening/talking exerci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audioboo.fm/MrG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8113680" y="5130720"/>
            <a:ext cx="100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14"/>
          <p:cNvSpPr/>
          <p:nvPr/>
        </p:nvSpPr>
        <p:spPr>
          <a:xfrm>
            <a:off x="-2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>
            <a:hlinkClick r:id="rId3" action="ppaction://hlinksldjump"/>
          </p:cNvPr>
          <p:cNvSpPr/>
          <p:nvPr/>
        </p:nvSpPr>
        <p:spPr>
          <a:xfrm>
            <a:off x="-22680" y="5707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lipC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eat way for pupils to take control of their own learnin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Y easy to use – one button recordin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in group work, creates an ethos of accountability within the group dynami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enes can be easily edited with Windows Movie Maker or Serif – schools should have either/or availabl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ws reports, play scenes, multimedia pupil-created texts…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justjon.net/wp-content/uploads/2011/04/flip-cam.jpe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51460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>
            <a:hlinkClick r:id="rId2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vanessa , erin, brodie and emma.avi" descr=""/>
          <p:cNvPicPr/>
          <p:nvPr/>
        </p:nvPicPr>
        <p:blipFill>
          <a:blip r:embed="rId3"/>
          <a:stretch/>
        </p:blipFill>
        <p:spPr>
          <a:xfrm>
            <a:off x="7380360" y="5516640"/>
            <a:ext cx="1549440" cy="1239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ikiSp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way of producing and displaying collaborativ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with the whol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et up and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1.2 Collaborativ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1.5 Collaborativ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Int 2 English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http://www.thethinkingstick.com/images/2011/02/wikispaces.gif"/>
          <p:cNvPicPr/>
          <p:nvPr/>
        </p:nvPicPr>
        <p:blipFill>
          <a:blip r:embed="rId4"/>
          <a:stretch/>
        </p:blipFill>
        <p:spPr>
          <a:xfrm>
            <a:off x="6286680" y="0"/>
            <a:ext cx="2857320" cy="1413000"/>
          </a:xfrm>
          <a:prstGeom prst="rect">
            <a:avLst/>
          </a:prstGeom>
          <a:ln w="0">
            <a:noFill/>
          </a:ln>
        </p:spPr>
      </p:pic>
      <p:sp>
        <p:nvSpPr>
          <p:cNvPr id="128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>
            <a:hlinkClick r:id="rId5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Glo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you make of 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ase of taking your time to familiarise yourself – and pupils – with the way it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has improved greatly since the first time we saw – and gave up –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ork; I have used it for revision materials and discussion for when pupils are on exam le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can find it frustrating to work w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http://status.glowscotland.org.uk/logo.gif"/>
          <p:cNvPicPr/>
          <p:nvPr/>
        </p:nvPicPr>
        <p:blipFill>
          <a:blip r:embed="rId1"/>
          <a:stretch/>
        </p:blipFill>
        <p:spPr>
          <a:xfrm>
            <a:off x="755640" y="189000"/>
            <a:ext cx="1933560" cy="1152360"/>
          </a:xfrm>
          <a:prstGeom prst="rect">
            <a:avLst/>
          </a:prstGeom>
          <a:ln w="0">
            <a:noFill/>
          </a:ln>
        </p:spPr>
      </p:pic>
      <p:sp>
        <p:nvSpPr>
          <p:cNvPr id="133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>
            <a:hlinkClick r:id="rId2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GoogleDo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oretically, a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grea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ol to use in the classro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hool computers can struggle with them and The Powers That Be in the authority are reluctant to change –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or now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ever, great for homework – collaborative powerpoints can be easily created, using notes from </a:t>
            </a:r>
            <a:r>
              <a:rPr b="0" lang="en-US" sz="23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flick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hel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 2 English: </a:t>
            </a:r>
            <a:r>
              <a:rPr b="0" lang="en-US" sz="23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ollaborative Power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encourage pupils to create an account and use it at home to print off in schoo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rid of the “I forgot my memory stick…” excuse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7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>
            <a:hlinkClick r:id="rId3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googledocs.tiff"/>
          <p:cNvPicPr/>
          <p:nvPr/>
        </p:nvPicPr>
        <p:blipFill>
          <a:blip r:embed="rId4"/>
          <a:stretch/>
        </p:blipFill>
        <p:spPr>
          <a:xfrm>
            <a:off x="3925800" y="476280"/>
            <a:ext cx="5221440" cy="74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Everno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chang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e to – as they claim – ‘remember everything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used on almost any mobile phone with an internet connection (non-3G, 3G, wif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s seamlessly with browser/desktop 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 – allow you to find anything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– can even search for text within images – ‘cinema talk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pic on phone and instantly upload to evern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or a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Evernote logo"/>
          <p:cNvPicPr/>
          <p:nvPr/>
        </p:nvPicPr>
        <p:blipFill>
          <a:blip r:embed="rId1"/>
          <a:stretch/>
        </p:blipFill>
        <p:spPr>
          <a:xfrm>
            <a:off x="5580000" y="404640"/>
            <a:ext cx="3306960" cy="82728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>
            <a:hlinkClick r:id="rId2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9:07:23Z</dcterms:created>
  <dc:creator>Mr D. Gibb</dc:creator>
  <dc:description/>
  <dc:language>en-US</dc:language>
  <cp:lastModifiedBy>Darren Gibb</cp:lastModifiedBy>
  <dcterms:modified xsi:type="dcterms:W3CDTF">2012-02-20T19:50:23Z</dcterms:modified>
  <cp:revision>52</cp:revision>
  <dc:subject/>
  <dc:title>ICT in the English Classroom</dc:title>
</cp:coreProperties>
</file>